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186-43B2-4386-990E-AB634D9E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300-4E8E-4386-A1A7-2BAF364A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7FB-61F7-4068-81D2-30AC044A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61D-4584-41A8-8076-8160E484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55D2-3976-440D-9050-7DE7ACE7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19B3-178D-4BC7-AF31-1B8639FA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8221-D47F-476C-96DF-A8B7B2A5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7822-E913-4A9E-BC66-0B0EF030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960F-BA97-4321-9D01-CDB32E7B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AE52-07F6-4D70-84BA-5DBAB618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F425-B55A-487C-BCA3-CC3B6CFD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CDC-DAB3-48C6-9704-8F8153AD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D518-AC3E-4CDF-A1D8-D7172078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6029-28FC-481A-BF5B-6B093E75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73D7-FE1C-484D-B84E-D77467E7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2A10-BB8C-4B5E-B022-0772388E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96D6-46E2-4E8B-BAFC-C87608F4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229-425B-44E4-9398-6C1FCF2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027-AEE8-4A93-98BB-50958C4E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CDD-5AF5-478B-B1A0-C5841A1D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7D4-7E3E-498C-BE46-3CE76A17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566-0EE7-4E47-85FC-B0727133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4C3-48DA-4E71-BC3D-E4E4D039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E13-2E09-45EC-80D1-E1B278AC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94C0-3165-448A-968A-63C6B1B657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351E-52DA-40B6-AFD8-2254C6DFFF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6fa9b7"/>
                </a:solidFill>
                <a:latin typeface="Tahoma"/>
              </a:rPr>
              <a:t>الضمائر: تعتبر من الأسماء لأنها  تدل على غائب او مخاطب أو متكلم</a:t>
            </a:r>
            <a:r>
              <a:rPr b="1" lang="en-US" sz="4800" spc="-1" strike="noStrike">
                <a:solidFill>
                  <a:srgbClr val="6fa9b7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أولا : ضمائر الرفع المتصلة: وتعرب في محل رفع فاعل أو نائب فاعل أو اسم كانا وأخوات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قاعدة رقم </a:t>
            </a:r>
            <a:r>
              <a:rPr b="0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3</a:t>
            </a:r>
            <a:r>
              <a:rPr b="0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): إذا اتصلت (الهاء ،والكاف،والياء) ب(إن وأخواتها مثل: لعل،كأن): تعرب في محل نصب اسمها.</a:t>
            </a:r>
            <a:br>
              <a:rPr sz="4000"/>
            </a:br>
            <a:r>
              <a:rPr b="0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قاعدة </a:t>
            </a:r>
            <a:r>
              <a:rPr b="0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4</a:t>
            </a:r>
            <a:r>
              <a:rPr b="0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):وإذا اتصلت بحروف الجرتعرب في محل جر بحرف الجر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لعل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ك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تارك بعض ما يوحى الي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ك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وضائقٌ به صدر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ك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إن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من يأتِ رب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ه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مجرما فإن ل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ه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جهن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كأن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ما درستُ جيدا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 تاء الفاعل</a:t>
            </a: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 مثل: اشتريْ</a:t>
            </a:r>
            <a:r>
              <a:rPr b="1" lang="hi-IN" sz="3100" spc="-1" strike="noStrike">
                <a:solidFill>
                  <a:srgbClr val="ff3300"/>
                </a:solidFill>
                <a:latin typeface="Tahoma"/>
              </a:rPr>
              <a:t>تُ</a:t>
            </a:r>
            <a:r>
              <a:rPr b="1" lang="hi-IN" sz="3100" spc="-1" strike="noStrike">
                <a:solidFill>
                  <a:srgbClr val="ffffff"/>
                </a:solidFill>
                <a:latin typeface="Tahoma"/>
              </a:rPr>
              <a:t>، درسْ</a:t>
            </a:r>
            <a:r>
              <a:rPr b="1" lang="hi-IN" sz="3100" spc="-1" strike="noStrike">
                <a:solidFill>
                  <a:srgbClr val="ff3300"/>
                </a:solidFill>
                <a:latin typeface="Tahoma"/>
              </a:rPr>
              <a:t>تَ</a:t>
            </a:r>
            <a:r>
              <a:rPr b="1" lang="hi-IN" sz="3100" spc="-1" strike="noStrike">
                <a:solidFill>
                  <a:srgbClr val="ffffff"/>
                </a:solidFill>
                <a:latin typeface="Tahoma"/>
              </a:rPr>
              <a:t>، ونجحْ</a:t>
            </a:r>
            <a:r>
              <a:rPr b="1" lang="hi-IN" sz="3100" spc="-1" strike="noStrike">
                <a:solidFill>
                  <a:srgbClr val="ff3300"/>
                </a:solidFill>
                <a:latin typeface="Tahoma"/>
              </a:rPr>
              <a:t>تُ</a:t>
            </a:r>
            <a:br>
              <a:rPr sz="3100"/>
            </a:b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3300"/>
                </a:solidFill>
                <a:uFillTx/>
                <a:latin typeface="Tahoma"/>
              </a:rPr>
              <a:t>الإعراب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فعل ماضي مبني على السكون لاتصاله بالتاء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3300"/>
                </a:solidFill>
                <a:uFillTx/>
                <a:latin typeface="Tahoma"/>
              </a:rPr>
              <a:t>والتاء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ضمير متصل مبني في محل رفع فاع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1" lang="hi-IN" sz="4400" spc="-1" strike="noStrike" u="sng">
                <a:solidFill>
                  <a:srgbClr val="ffffcc"/>
                </a:solidFill>
                <a:uFillTx/>
                <a:latin typeface="Tahoma"/>
              </a:rPr>
              <a:t>ألف الاثنين </a:t>
            </a:r>
            <a:r>
              <a:rPr b="1" lang="hi-IN" sz="4400" spc="-1" strike="noStrike">
                <a:solidFill>
                  <a:srgbClr val="ffffcc"/>
                </a:solidFill>
                <a:latin typeface="Tahoma"/>
              </a:rPr>
              <a:t>مثل:- كان</a:t>
            </a:r>
            <a:r>
              <a:rPr b="1" lang="hi-IN" sz="4400" spc="-1" strike="noStrike">
                <a:solidFill>
                  <a:srgbClr val="ff3300"/>
                </a:solidFill>
                <a:latin typeface="Tahoma"/>
              </a:rPr>
              <a:t>ا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يأك</a:t>
            </a:r>
            <a:r>
              <a:rPr b="1" lang="hi-IN" sz="4400" spc="-1" strike="noStrike">
                <a:solidFill>
                  <a:srgbClr val="ff3300"/>
                </a:solidFill>
                <a:latin typeface="Tahoma"/>
              </a:rPr>
              <a:t>لا</a:t>
            </a:r>
            <a:r>
              <a:rPr b="1" lang="hi-IN" sz="4400" spc="-1" strike="noStrike">
                <a:solidFill>
                  <a:srgbClr val="ffffcc"/>
                </a:solidFill>
                <a:latin typeface="Tahoma"/>
              </a:rPr>
              <a:t>ن الطعام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Tahoma"/>
              </a:rPr>
              <a:t>الإعراب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</a:rPr>
              <a:t>كان: فعل ماضٍ ناق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Tahoma"/>
              </a:rPr>
              <a:t>الألف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ضمير متصل مبني في محل رفع اسم كا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</a:rPr>
              <a:t>يأكلان: فعل مضارع مرفوع وعلامة رفعة ثبوت النون لأنه من الأفعال الخمسة، و</a:t>
            </a:r>
            <a:r>
              <a:rPr b="1" lang="hi-IN" sz="2800" spc="-1" strike="noStrike" u="sng">
                <a:solidFill>
                  <a:srgbClr val="ff3300"/>
                </a:solidFill>
                <a:uFillTx/>
                <a:latin typeface="Tahoma"/>
              </a:rPr>
              <a:t>الألف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ضمير متصل مبني في محل رفع فاعل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</a:rPr>
              <a:t>أعرب: الطالبان اجتهدا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ثالثا : واو الجماعة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.(الذين قال</a:t>
            </a:r>
            <a:r>
              <a:rPr b="0" lang="hi-IN" sz="4000" spc="-1" strike="noStrike" u="sng">
                <a:solidFill>
                  <a:srgbClr val="ff3300"/>
                </a:solidFill>
                <a:uFillTx/>
                <a:latin typeface="Tahoma"/>
              </a:rPr>
              <a:t>و</a:t>
            </a:r>
            <a:r>
              <a:rPr b="0" lang="hi-IN" sz="4000" spc="-1" strike="noStrike" u="sng">
                <a:solidFill>
                  <a:srgbClr val="ffffcc"/>
                </a:solidFill>
                <a:uFillTx/>
                <a:latin typeface="Tahoma"/>
              </a:rPr>
              <a:t>ا ربنا الله ثم استقام</a:t>
            </a:r>
            <a:r>
              <a:rPr b="0" lang="hi-IN" sz="4000" spc="-1" strike="noStrike" u="sng">
                <a:solidFill>
                  <a:srgbClr val="ff3300"/>
                </a:solidFill>
                <a:uFillTx/>
                <a:latin typeface="Tahoma"/>
              </a:rPr>
              <a:t>و</a:t>
            </a:r>
            <a:r>
              <a:rPr b="0" lang="hi-IN" sz="4000" spc="-1" strike="noStrike" u="sng">
                <a:solidFill>
                  <a:srgbClr val="ffffcc"/>
                </a:solidFill>
                <a:uFillTx/>
                <a:latin typeface="Tahoma"/>
              </a:rPr>
              <a:t>ا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الإعراب : قال فعل ماض مبني على الضم لاتصاله بالواو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الوا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ضمير متصل مبني في محل رفع فاع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استقاموا : الاعراب السابق نفس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المجتهدون كُوفئ</a:t>
            </a:r>
            <a:r>
              <a:rPr b="0" lang="hi-IN" sz="3200" spc="-1" strike="noStrike" u="sng">
                <a:solidFill>
                  <a:srgbClr val="ff3300"/>
                </a:solidFill>
                <a:uFillTx/>
                <a:latin typeface="Tahoma"/>
              </a:rPr>
              <a:t>و</a:t>
            </a:r>
            <a:r>
              <a:rPr b="0" lang="hi-IN" sz="3200" spc="-1" strike="noStrike" u="sng">
                <a:solidFill>
                  <a:srgbClr val="ffffff"/>
                </a:solidFill>
                <a:uFillTx/>
                <a:latin typeface="Tahoma"/>
              </a:rPr>
              <a:t>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المجتهدون: مبتدأ مرفوع وعلامة رفعة الواو لأنه جمع مذكر سال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كوفئ: فعل ماض مبني للمجهول. الواو:ضمير متصل مبني في محل رفع نائب فاع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4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. نون النسوة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والوالدات يرضعْ</a:t>
            </a:r>
            <a:r>
              <a:rPr b="0" lang="hi-IN" sz="4000" spc="-1" strike="noStrike">
                <a:solidFill>
                  <a:srgbClr val="ff3300"/>
                </a:solidFill>
                <a:latin typeface="Tahoma"/>
              </a:rPr>
              <a:t>نَ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أولادهن حولين كاملين 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يرضع : فعل مضارع مبني على السكون  لاتصاله بنون النسو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نون النسوة : </a:t>
            </a: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ضمير متصل  مبني في محل رفع فاع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الطالبات ذهبْ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ن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إلى غرفة المشرف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ياء المخاطبة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اجلس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بهدوء يا فاطم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الإعراب : اجلس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فعل امر مبني على حذف النو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والياء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ضمير متصل مبني في محل رفع فاعل 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أعرب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قول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سبحان الل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748720" cy="53294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**</a:t>
            </a:r>
            <a:r>
              <a:rPr b="0" lang="hi-IN" sz="4400" spc="-1" strike="noStrike" u="sng">
                <a:solidFill>
                  <a:srgbClr val="ffffff"/>
                </a:solidFill>
                <a:uFillTx/>
                <a:latin typeface="Tahoma"/>
              </a:rPr>
              <a:t>الضمائر المشتركة بين النصب والج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8913"/>
                </a:solidFill>
                <a:latin typeface="Tahoma"/>
              </a:rPr>
              <a:t>( ياء المتكلم،كاف الخطاب ،هاء الغيبة 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Tahoma"/>
              </a:rPr>
              <a:t>قاعدة رقم 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ياء المتكلم وكاف الخطاب وهاء الغيبة إذا اتصلت بالأفعال تعرب :ضمير متصل مبني في محل نصب مفعول به.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ffffcc"/>
                </a:solidFill>
                <a:uFillTx/>
                <a:latin typeface="Tahoma"/>
              </a:rPr>
              <a:t>أمثلة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رأيتْ</a:t>
            </a: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كَ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حزينا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قابلن</a:t>
            </a: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ي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اليوم في الكلية محمدٌٌ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رأيتُ</a:t>
            </a: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ه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اليوم في الملع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رأى : فعل ماض مبني على السكون لاتصاله ب(التاء):والتاء في محل رفع فاعل ،الكاف :ضمير متصل مبني في محل نصب مفعول ب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ffcc"/>
                </a:solidFill>
                <a:uFillTx/>
                <a:latin typeface="Tahoma"/>
              </a:rPr>
              <a:t>قاعدة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2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):إذا اتصلت (الهاء ،والكاف،والياء) بالأسماء تعرب ضمير متصل مبني في محل جر بالإضافة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</a:t>
            </a:r>
            <a:r>
              <a:rPr b="0" lang="hi-IN" sz="3200" spc="-1" strike="noStrike" u="sng">
                <a:solidFill>
                  <a:srgbClr val="ffffff"/>
                </a:solidFill>
                <a:uFillTx/>
                <a:latin typeface="Tahoma"/>
              </a:rPr>
              <a:t>الأمثلة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لعل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ك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تارك بعض ما يوحى إلي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كَ </a:t>
            </a: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وضائقٌ به صدرُ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ك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كُتب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نظيفة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منزلُ</a:t>
            </a:r>
            <a:r>
              <a:rPr b="0" lang="hi-IN" sz="3200" spc="-1" strike="noStrike">
                <a:solidFill>
                  <a:srgbClr val="ff3300"/>
                </a:solidFill>
                <a:latin typeface="Tahoma"/>
              </a:rPr>
              <a:t>ه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قريبٌ مِنْ المسجدِ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أعرب ما لون بالأحمر وفقا للقاعدة السابق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أعط أمثلة مشابه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0:42:26Z</dcterms:created>
  <dc:creator>admin</dc:creator>
  <dc:description/>
  <dc:language>en-US</dc:language>
  <cp:lastModifiedBy>admin</cp:lastModifiedBy>
  <dcterms:modified xsi:type="dcterms:W3CDTF">2007-03-03T23:43:19Z</dcterms:modified>
  <cp:revision>10</cp:revision>
  <dc:subject/>
  <dc:title>الضمائر المتصلة:</dc:title>
</cp:coreProperties>
</file>